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0B2-0C87-40C7-8653-A8CBD480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1F3-248E-40E3-9008-B40C01B4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248-FFA7-4158-A89D-4C08EF06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D49-FCBA-4D67-B407-4D1FECC0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9FE-CDD0-455A-8144-514AA4E2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F51D-4309-4BFA-B495-6D2FFD53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2EA-58F1-4B8B-B81D-B982438F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5BE9-3D8B-4F7F-A750-4CA3D68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431E-5C03-4C2F-AEB4-672EF22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D74-FE6D-46F9-8142-88C02DEA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7733-4E27-492B-BE56-6B2599A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0C7-FCF4-466E-AA90-3B7947C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6BDC-773E-4E07-83A0-3E6079F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1CF4-008B-461F-A5AD-5DECA460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2A35-C4F5-4B67-A6A1-85E45FF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5525-44BA-47CB-9387-B973C27C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435D-17FE-4705-B998-6436F5A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DF1-35BD-4289-B464-91FBD97E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6EB-2BD6-4F4E-AF0D-19D422E7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D99-9ED8-4306-981B-36A558B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6F0-719C-4A78-B90B-87866700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E4E-AA9D-4C11-992C-B8099EDA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969-C80E-4657-8AF5-1AA32693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DB8-9250-4F47-8760-7820382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2B2-0318-4072-B1AB-BB5680ABD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B133-6762-470D-8079-13D40F664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18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ive Us A King “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1-9, Pages 176-18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1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urposes of the Proverbs (1-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shun evil counsel (10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all of wisdom (20-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onsequences of not listening to wisdom (24-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2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wisdom (1-11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 will deliver one from the evil man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12-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 will deliver one from the immoral woman (16-2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3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idance for the young 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seeking the Lord (1-1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value of wisdom (13-26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sdom’s “do not” list (27-3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4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author remembers the instructions of his father (1-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rasts between wisdom and the ways of evil (10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 attention to instruction (20-27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eware of the seductions of the immoral woman (1-1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y with your wife and enjoy love (15-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od sees all iniquities (21-23)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6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et out of bad promises (1-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lly of the sluggard (6-11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ributes of a worthless person (12-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abominations of the Lord (16-1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urther instructions to beware of adultery (20-3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7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void the lures and snares of the crafty harlot (1-23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dangers of falling by following the wicked woman (24-27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8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excellence of wisd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cries out to fools and the simple (1-1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promises many gifts (12-2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helped create the world (22-3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dom blesses a man (32-3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are invited to come to the way of wisdom (1-6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reaction of the foolish and the wise to correction (7-1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olish woman is described (13-18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roverb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condensed (short and concise) wisdom gleaned from years of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ments of wisdom guided by the Holy Spirit to include for all men of all generation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se have the fear of the Lord as their solid foundation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olomon spoke 3,000 proverbs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1 Kings 4:3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urpos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know wisdom and instr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discern the words of understan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receive instruction in the “whys and wherefores” of righteous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prudence to the simp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the “wise man” learning and understanding in sound rules of conduct and managing the affairs of l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fool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fuses instru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recognize obvious “pitfalls” in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learn from his mistak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jects correction from the wi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rejects the way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simple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pically, a young man without experience and without knowledge (ignorant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not learned lessons from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cks in learning from the experience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ïve in trusting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“wisdom” -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ability to live a godly life in an ungodly worl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fear of the Lord is the beginning of knowledge” (1: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fear of the Lord is the beginning of wisdom” (9:1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e need to pray for wisdom (James 1:5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rms Used In 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ine the “wise man” - one wh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pically, an older man with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learned lessons from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s from his own mistakes and those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s from the experience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s the “pitfalls” the simple fall in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earns wisdom from the fear of Go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lin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atherly instructo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-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verbs of Solomon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0-2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of Solomon, copied by the men of King Hezekia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s 25-2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Agu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King Lemuel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Fatherly Instructor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overbs 1-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ice from a father to a son (also includes advice to daughter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rents have responsibility to teach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oung people have responsibility to listen and to give heed to the ad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structions on principles of life, including one’s responsibilities to Go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1:05:02Z</dcterms:created>
  <dc:creator>Don Vines</dc:creator>
  <dc:description/>
  <dc:language>en-US</dc:language>
  <cp:lastModifiedBy>Frank D Vines</cp:lastModifiedBy>
  <dcterms:modified xsi:type="dcterms:W3CDTF">2005-09-11T13:13:37Z</dcterms:modified>
  <cp:revision>12</cp:revision>
  <dc:subject/>
  <dc:title>Proverbs</dc:title>
</cp:coreProperties>
</file>